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1DD-1E00-421F-9003-68D80D83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809-A144-42F9-906E-C523AACC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5C3-59B4-4453-A6B1-E60BE65D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BF2-594C-4331-BFFB-0DA11E97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3932-06CF-40B0-AD90-0BAEC03F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E913-3F6E-4783-BB11-5D621C6C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3BEF-5872-44EA-81C2-0908C494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D453-29A4-4209-9E86-8762A925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5173-922B-43A7-BC78-E714E70C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ABE7-DBE2-4D37-BEDE-3FC816B4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4DEA-D0DF-4355-A0D1-DADF8C38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80B-8B65-41C2-9D93-43859E54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5175-7312-4838-8E0B-BEA04E97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DB1D-8E3D-481D-9DB5-8DFA341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5C37-62F1-4F73-9C5D-7C764B32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8DB4-F692-45D5-A8C2-9B24BFE4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FEF6-2D51-40EA-B875-BB6B32F1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608-00DB-45E8-A7D2-F39F78CA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B2C-B601-441F-93D0-E545C06C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DD8-793B-414A-BF0D-F52F423B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82F-77EB-497B-B1CD-8F4733E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46F-E3AD-4E7E-848B-B5BF968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8C0-D4F9-4C28-9C9C-D9C348E4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2D6-031B-493E-BA34-87F74490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BC03-A611-4B89-8E70-2948CE53C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FEFA-665D-42DF-919E-157DF3F65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898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Показатели оценки деятельности ребенка на компьютере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3500280"/>
            <a:ext cx="3672000" cy="244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амостоятельность деятельности ребен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ботает самостоятель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с небольшой помощью педаго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только вместе с педагогом, другими дет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78936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ость поведения, позы, движений и речи ребенка в процессе за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своение детьми элементарных навыков управления компьютеро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сознанность соотношения действий управления изображением на экра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понимание символа-предм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понимание абстрактных символ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умение пользоваться курсором, клавишами направления и другими клавиш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умение пользоваться «мышкой», другими средствами ввода информаци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8:38:33Z</dcterms:created>
  <dc:creator>User</dc:creator>
  <dc:description/>
  <dc:language>en-US</dc:language>
  <cp:lastModifiedBy>User</cp:lastModifiedBy>
  <dcterms:modified xsi:type="dcterms:W3CDTF">2009-05-27T08:49:39Z</dcterms:modified>
  <cp:revision>2</cp:revision>
  <dc:subject/>
  <dc:title>Основные показатели оценки деятельности ребенка на компьютере </dc:title>
</cp:coreProperties>
</file>